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11.gif" ContentType="image/gif"/>
  <Override PartName="/ppt/media/image14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976-4E56-4EF1-B6AD-D1A931E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2AE-B9E5-482A-B1BD-B6317B5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6D8-0491-449B-AD5E-34931677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6C7-B842-44BA-975D-087D304A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71E5-C8F8-4949-B8A7-B24C3445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FEE2-AEFF-461B-B362-0653B41C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B51E-187F-49E3-9D4B-E8E573AE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0834-2052-4F69-8252-1C5B4B2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D04-274C-4BDC-809D-373027B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472-6C57-4EB9-B15B-AC62887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3AA-8D54-4776-9963-B407E41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D70-A53B-41E2-A6E7-E1256E7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5CE8-AE60-4A33-9353-D89E3AD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5CCA-0B0D-49FB-8CB2-A082424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E76-09FA-4492-9830-7FDD2A2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3556-F4D5-463A-B0DB-7181C2B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894-F2ED-4489-9CA5-2E4A6B9B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7EB7-6740-4F6A-BE49-B0AB91D2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79AF-FD84-4C88-86A9-36A91F5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1267-B3B3-4D15-B75D-2C9D2B48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059D-F9B0-4EA7-9195-02BDFAC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A765-A1CA-44C8-8834-167991E6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ED4-96B9-4173-800C-3B0722F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AEF0-66E2-4E57-A152-6A0565D8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EDA6-8BC6-4B95-9799-8189328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409C-7CB9-46F1-B79A-FA88B7C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C183-D469-4A5B-BB45-FAE523C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D526-E229-4A71-AFE0-3476827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B614-8527-4C71-A698-BE8F992E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74A6-94CD-4ED1-A1B9-02AAE2AB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894C-A0BF-48F4-B64B-0B3A326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177B-488E-4677-B1C7-5977BC37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B44E7-D06B-42CA-9C4F-B7CB293B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DDD-86FF-410C-8F5C-492DF65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F658-37F3-4D1D-B869-96ABD6E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BFED-9FA0-41A8-A01B-7E2AD76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F74B-425D-45F2-B474-A86C5499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44D9-4689-49A1-8BAD-81F492D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6998-90D2-4431-8FF3-9175061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30E7-8DF4-4CAE-9B29-126D74DC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9DF2-A2BD-4AB9-AD7E-FA13B8A2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506A-224D-48E2-AB66-6D36B6E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20D7-9A9C-4450-8AC1-13AC0A8C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E1FD-7ECE-4C2D-8A3F-0A2A9CB0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DD8-DB73-4F6E-A7AB-19315D40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9A49-A692-4E90-8A36-F90BAD8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B63D-9511-4951-8FA1-719191C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5954-6E92-4BD7-9B26-202CCF84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E482-9C42-43C9-A0D0-88CF892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C084-1F35-4E83-B007-87DEC7B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1557-D131-4F20-9BCB-1CFC4DF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A84A-2EC5-4464-BF04-7671B77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A3485-4158-4F98-96E8-ECB958C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C977-0BED-459E-BD5E-E6E74F5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8C33-3BFD-4723-8780-886066B0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22E-F404-41D2-893A-1EFB6AA1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2996-C79B-472A-93D4-758B845E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C450-0D99-46B7-8AF6-9BF466DD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9FDD-2990-4441-85B6-56A471E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18CD-988C-4345-A9D7-6C2E2C1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BBAB-F183-4625-90C6-DC64BCFB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1057-DEA2-4551-AC12-E8BFC84C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9676B-0D1D-47DE-8FC0-6067FE2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25469-EEA9-4CE4-A7DE-01CD6C6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F5DD-3306-4F5D-87E1-EF2F7A7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2719-B226-4D1D-BE61-961E837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22D-5841-401D-9BAB-A2579A4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5691-6574-4C7B-AA32-7F18B29C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85F0-C0A1-4BA1-8529-033FCD17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E487-A570-477F-A404-4AFEF1CF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66135-FB97-42A4-84A6-DEF4BF43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D7BE-1DC7-4D5C-A25D-ABC7DC9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6E33-DEAB-4922-A271-243BE043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236D-FDDB-4861-A2A4-2A46741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8399F-CDB1-4A85-8AF5-5AF3D434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0C97-41D4-476C-ABDF-6902B7A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B600-9B36-41C3-9AE5-3235385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F28-65FB-42C2-BB61-BF32534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94406-5F03-4654-8C1C-4534506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8077-3A73-4C27-BD64-59A0E6F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E490-B810-47AF-B021-C72100F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27099-8F1C-4757-8565-646CAA44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6F35-41DF-420B-A813-E8BBC716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DA8B-D976-402B-9B9B-66D0754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2EBA-F000-4E01-BB91-A35BDFF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DD60-E085-4F82-86A6-68E96D64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C9BB-0585-4EBF-AE79-29FFF58B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3C36-A717-4FC1-90D3-EFE11D9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092-CA0A-4DAB-B2C1-DA824FF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B1F6B-AD0D-4366-8731-B6D6EB9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567CB-AF4E-4FDA-A89D-E9F4C5C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7A18-7CB0-4CD7-851F-8EF4B0B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2724-B18F-4840-A7D9-DD94A86D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1DD7-25EA-455A-95BF-E20F5D56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CA82-1EEB-4052-B085-3B5CD90D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1973-283C-4ADA-A446-9A45A394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E17-DF3E-42C5-A125-A3DED7F323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595-6BE1-42F2-B2AE-D86C16A80B4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17E-838C-4C1C-ADB1-BBDF572311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D18E-40C5-48A7-8A79-9E3E72ECD99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3B0-27DD-4C3A-89DE-474F280706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E74-D4D0-47A3-A9F1-38952218642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5E1D-8C2B-4E15-BE1D-69A5CF26FE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83BC-66F6-4F37-BBBB-8CE8D87114A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268200" y="907920"/>
            <a:ext cx="8425080" cy="4969080"/>
          </a:xfrm>
          <a:prstGeom prst="rect">
            <a:avLst/>
          </a:prstGeom>
          <a:ln w="0">
            <a:noFill/>
          </a:ln>
        </p:spPr>
      </p:pic>
      <p:sp>
        <p:nvSpPr>
          <p:cNvPr id="371" name="DiagonalStripe"/>
          <p:cNvSpPr/>
          <p:nvPr/>
        </p:nvSpPr>
        <p:spPr>
          <a:xfrm rot="6700200">
            <a:off x="3900960" y="1207080"/>
            <a:ext cx="4479840" cy="422136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ppreciate math in the context of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 able to connect the lesson to real life situation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nderstand and apply basic principles in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Program Files\Microsoft Office\MEDIA\OFFICE12\Lines\BD14677_.gif"/>
          <p:cNvPicPr/>
          <p:nvPr/>
        </p:nvPicPr>
        <p:blipFill>
          <a:blip r:embed="rId2"/>
          <a:stretch/>
        </p:blipFill>
        <p:spPr>
          <a:xfrm rot="20006400">
            <a:off x="2895480" y="4800240"/>
            <a:ext cx="5715000" cy="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ason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Deductive structu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ints, lines and plan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ints on a li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vex sets and separati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roof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ferring new stateme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ng theore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filecab2"/>
          <p:cNvSpPr/>
          <p:nvPr/>
        </p:nvSpPr>
        <p:spPr>
          <a:xfrm>
            <a:off x="5105520" y="3505320"/>
            <a:ext cx="3195360" cy="2890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C:\Program Files\Microsoft Office\MEDIA\CAGCAT10\j0234687.gif"/>
          <p:cNvPicPr/>
          <p:nvPr/>
        </p:nvPicPr>
        <p:blipFill>
          <a:blip r:embed="rId2"/>
          <a:stretch/>
        </p:blipFill>
        <p:spPr>
          <a:xfrm>
            <a:off x="5562720" y="4114800"/>
            <a:ext cx="2198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C:\Program Files\Microsoft Office\MEDIA\CAGCAT10\j0240695.wmf"/>
          <p:cNvPicPr/>
          <p:nvPr/>
        </p:nvPicPr>
        <p:blipFill>
          <a:blip r:embed="rId1"/>
          <a:stretch/>
        </p:blipFill>
        <p:spPr>
          <a:xfrm>
            <a:off x="3505320" y="0"/>
            <a:ext cx="2590560" cy="2075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ng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ngles and separa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ogical foundations for angular measu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angle and triangle congruen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 of triangl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ditions for congruenc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equaliti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 brief Review of Algebraic inequaliti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equalities among measureme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elations between sides and angles of a triang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direct proofs and parallelis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radiction and exhaustive proof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limina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rallelis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ansversal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roportionality and triangle similar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atios and proporti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imilarity of triangl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ng two triangles simila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pplications of a right triang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ythagorean theore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Program Files\Microsoft Office\MEDIA\CAGCAT10\j0291984.wmf"/>
          <p:cNvPicPr/>
          <p:nvPr/>
        </p:nvPicPr>
        <p:blipFill>
          <a:blip r:embed="rId2"/>
          <a:stretch/>
        </p:blipFill>
        <p:spPr>
          <a:xfrm>
            <a:off x="6781680" y="0"/>
            <a:ext cx="194328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Quadrilateral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 of quadrilateral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rallelogra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pecial parallelogra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Ways of proving that a quadrilateral is a parallelogra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57200" y="4106880"/>
            <a:ext cx="1676520" cy="2751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irc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hords and Diamet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ngles and arcs inscribed in a circ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angents and sec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phe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erimeters, areas and volum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3D and 2D shap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troduction to analytic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tesian pla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Distance between 2 poi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lope &amp; equation of a li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f we give a value for effort we substitute A=1 B=2 C=3 D=4 E=5 F=6 G=7 H=8 I=9………. Then ATTITUDE to things totals to a hundred percent effor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-EJ Gelmo-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lane Geometry for Philippine High schools(Roberto Natividad Padua,Ph.D., Estela Galiciano-Adanza,Ph.d., Corazon Beredo Alano, M.A.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6:43:28Z</dcterms:created>
  <dc:creator>junPC</dc:creator>
  <dc:description/>
  <dc:language>en-US</dc:language>
  <cp:lastModifiedBy>junPC</cp:lastModifiedBy>
  <dcterms:modified xsi:type="dcterms:W3CDTF">2012-10-02T01:21:53Z</dcterms:modified>
  <cp:revision>11</cp:revision>
  <dc:subject/>
  <dc:title>Euls university High school dept. Mr. Gelmo Geometry</dc:title>
</cp:coreProperties>
</file>